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63704"/>
        <c:axId val="22114257"/>
      </c:barChart>
      <c:catAx>
        <c:axId val="98363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4257"/>
        <c:crosses val="autoZero"/>
        <c:auto val="1"/>
        <c:lblAlgn val="ctr"/>
        <c:lblOffset val="100"/>
        <c:noMultiLvlLbl val="0"/>
      </c:catAx>
      <c:valAx>
        <c:axId val="22114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3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7A6-A0F9-47E7-A403-C6EF1927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6F3-6809-49DE-A0C4-09298FF3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AF7-DAB1-4687-A9C9-77CEBC69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6F1-333D-4062-ABA9-4FBA181D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F7E-DDB1-481B-9D6D-F806A514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785-9136-4436-A503-5EC7CF6E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5C9-B994-42E8-91EE-B378C14D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301-8858-4D52-AF71-9B07799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4B7-2A39-4977-BDB8-605469A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F4A-D852-40BA-B733-B9BC753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8AA-0E06-4B6B-9E6F-1420076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ABE-D035-4EDD-8826-8A5F7D0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8F137-1797-489E-8EED-5C933D62D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