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70779"/>
        <c:axId val="90886064"/>
      </c:barChart>
      <c:catAx>
        <c:axId val="69770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86064"/>
        <c:crosses val="autoZero"/>
        <c:auto val="1"/>
        <c:lblAlgn val="ctr"/>
        <c:lblOffset val="100"/>
        <c:noMultiLvlLbl val="0"/>
      </c:catAx>
      <c:valAx>
        <c:axId val="90886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70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D72-EBDD-43A8-B3CC-9F345837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7C5-FEA5-4C93-87A1-9E959502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D8E-3098-47F5-A9D5-26D171A4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876-7E4B-4B5A-8D7D-7141190E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F04-42E4-404B-BFDC-E2EE8BDD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535E-9DDC-41B7-8710-EB3A11DF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D419-4E3D-471C-867D-9A65316F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1FB-20D5-4DF1-93B7-D4A0E920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486-0E61-4884-BB1A-1ACDA853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B09-5DAF-452E-997F-A2744941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5DE-F197-4BE9-975B-ABC40BA8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3BC-94C7-4405-8CB4-FA2FC854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E9348-82AF-43A4-9A4E-5591433362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