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29699"/>
        <c:axId val="47625183"/>
      </c:barChart>
      <c:catAx>
        <c:axId val="13729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5183"/>
        <c:crosses val="autoZero"/>
        <c:auto val="1"/>
        <c:lblAlgn val="ctr"/>
        <c:lblOffset val="100"/>
        <c:noMultiLvlLbl val="0"/>
      </c:catAx>
      <c:valAx>
        <c:axId val="47625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9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C6C-37DC-4AEB-8177-88DAF103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3AE-FB4B-427D-BDDB-F616758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41D-F130-4918-BEFD-5D22E9B4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A80-EBB8-467A-AB02-3E310091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154-4856-470D-BDE1-AD86140D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055-332D-4A36-B5C1-FF9A179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6C3-101E-433C-8D97-7638FF20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104-0945-4246-A56B-948EB0E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3C1-04E6-41BD-8871-5FD6B1A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AC3-B3AE-48C1-BDBE-FAA5C1E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7D0-406D-4A4B-B7DD-1C6EA1B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7B8-4D3D-4952-BAD2-42CDCEA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B85FD-8F56-418E-B4E1-0074F18B0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