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44050"/>
        <c:axId val="62332203"/>
      </c:barChart>
      <c:catAx>
        <c:axId val="61144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32203"/>
        <c:crosses val="autoZero"/>
        <c:auto val="1"/>
        <c:lblAlgn val="ctr"/>
        <c:lblOffset val="100"/>
        <c:noMultiLvlLbl val="0"/>
      </c:catAx>
      <c:valAx>
        <c:axId val="62332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4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FD9-BB48-4562-843E-4964FFBE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5F3-12C8-4DB5-ACEB-F4C4C601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FDB-EED8-4D3B-A479-E13451AC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CBC-48B7-49CF-8182-A26DCE0B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E44-6876-41DF-8DB0-3ACFDA6E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E40-D7BB-4B34-90E9-BF826F0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EBB-623A-4DF3-9B7E-5FCD42C6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C5C-27B2-4D9A-B978-BC6F7F1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B12-A4C2-4876-AB3A-C5E2653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904-2D53-453B-A2C8-C2AF5BE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B11-0425-4989-980E-2FE0E27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E76-09DF-48D7-BDBA-45A5DAC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7042-89F0-499D-B65C-10842EC14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