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809539"/>
        <c:axId val="53685293"/>
      </c:barChart>
      <c:catAx>
        <c:axId val="398095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85293"/>
        <c:crosses val="autoZero"/>
        <c:auto val="1"/>
        <c:lblAlgn val="ctr"/>
        <c:lblOffset val="100"/>
        <c:noMultiLvlLbl val="0"/>
      </c:catAx>
      <c:valAx>
        <c:axId val="53685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095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4F33-C82F-4420-B9A8-657E623C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971-DC6A-47EB-8983-EAEF2C2C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84A1-0579-44A1-9EE4-F4F29B41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FFD8-4F21-43CB-95D8-952B3799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96A-71A5-4B65-B1F4-AF12EC63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9E40-F775-49C4-B3B4-BED2F46E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3DE-916E-43C4-900D-5E5A1194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20DE-FE9A-4BD0-A366-7840761E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BA4-8113-4562-9BAF-A762D4F8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F14-1C47-410B-B58F-A824B285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3F4-1C4D-47F1-BFEC-E5510BBF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95E-0F6F-42A2-8207-15F97AE0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A332C-5BC7-4287-AF79-179347C119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