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79455"/>
        <c:axId val="35255336"/>
      </c:barChart>
      <c:catAx>
        <c:axId val="36979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55336"/>
        <c:crosses val="autoZero"/>
        <c:auto val="1"/>
        <c:lblAlgn val="ctr"/>
        <c:lblOffset val="100"/>
        <c:noMultiLvlLbl val="0"/>
      </c:catAx>
      <c:valAx>
        <c:axId val="35255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79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AAA-798E-45ED-9345-68C4B017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307-D482-4F18-BFAC-F03211B5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D65-43C7-4AC2-AD01-43601F5F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43F-4B4D-42E2-9459-BB4DE3DE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E07-0843-4497-9889-B698D85F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A44-FB2A-44C5-AE19-3F3B3FC8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735-560B-4925-AAAE-E7E04EFE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568-3A1F-4D60-993A-45DF8D11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5DD-3A85-4AF0-8D7C-22976300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328-DF2E-46D3-8995-DE4642BC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277-FEAE-449F-82A6-FAEED1CA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794-0983-4F89-ACB5-470F766A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B8AF9-1070-47FB-90C0-8BF62F2FE0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