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36076"/>
        <c:axId val="65789018"/>
      </c:barChart>
      <c:catAx>
        <c:axId val="19736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89018"/>
        <c:crosses val="autoZero"/>
        <c:auto val="1"/>
        <c:lblAlgn val="ctr"/>
        <c:lblOffset val="100"/>
        <c:noMultiLvlLbl val="0"/>
      </c:catAx>
      <c:valAx>
        <c:axId val="65789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36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028-07DC-4FC1-A62A-987B961C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9B09-0716-45FC-B328-4DF3F2D6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BAF-F0F7-4941-BCFE-AA3E2486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B2C-D356-4E2E-ADFA-731A6BDC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63F-BED2-474A-B736-D5948163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7AD-9F4A-47ED-B702-7A6DEB38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CB4-B863-4AAC-A2AB-873835C8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159-FAD7-4F55-8D6D-A3130404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372-D4A4-4467-B132-F1648E1F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593A-581E-4E2C-863E-2F347F2C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0254-EC11-46CC-BAC9-EBE00AE2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0DA-5943-4B4E-AEA2-81983F36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DF32D-3E45-4609-8F63-5ABFD7C2D3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